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723-F32C-4541-B56B-AB1A3099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47B-F682-4A91-ADB9-A9BEFAA7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4AD-0011-45E2-8DB4-AE8E4A6F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5A6-FE99-432D-A325-D3D6D93C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05A-82CE-4C98-BA9A-5C4814D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A24-6B5F-4A42-9DCB-5463643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D48-D375-4396-89AA-F55D319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5AC-B034-4A80-9353-1239FC29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271-682D-4D33-86B1-04D9B84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25C-585B-4365-B937-C9E1644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D75-CD2F-417E-8C10-05EA5C6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0A2-4619-4030-8653-F09B24F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541-31E5-4867-AC0D-2E6D9FD5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teracy Objecti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Plur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941720"/>
            <a:ext cx="20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99"/>
                </a:solidFill>
                <a:latin typeface="Comic Sans MS"/>
              </a:rPr>
              <a:t>Si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724280"/>
            <a:ext cx="230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99"/>
                </a:solidFill>
                <a:latin typeface="Comic Sans MS"/>
              </a:rPr>
              <a:t>Pl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160360" cy="65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1942920" cy="58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192744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1729080" cy="5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788000" y="4005360"/>
            <a:ext cx="18637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765000"/>
            <a:ext cx="799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Your T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Look at the following word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For each word, is their plu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194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omic Sans MS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77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pa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49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0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Comic Sans MS"/>
              </a:rPr>
              <a:t>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9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98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429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31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357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78936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ff"/>
                </a:solidFill>
                <a:latin typeface="Comic Sans MS"/>
              </a:rPr>
              <a:t>w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797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4653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Comic Sans MS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63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9079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omic Sans MS"/>
              </a:rPr>
              <a:t>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98100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pa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836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Comic Sans MS"/>
              </a:rPr>
              <a:t>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1413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jour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2276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551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metap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141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</a:rPr>
              <a:t>chu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5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386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a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42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ff"/>
                </a:solidFill>
                <a:latin typeface="Comic Sans MS"/>
              </a:rPr>
              <a:t>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5084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Comic Sans MS"/>
              </a:rPr>
              <a:t>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Comic Sans MS"/>
              </a:rPr>
              <a:t>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93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62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But, what would YOU do with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Comic Sans MS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5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Comic Sans MS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32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ff"/>
                </a:solidFill>
                <a:latin typeface="Comic Sans MS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46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565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Comic Sans MS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234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ff"/>
                </a:solidFill>
                <a:latin typeface="Comic Sans MS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0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Comic Sans MS"/>
              </a:rPr>
              <a:t>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5445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4:44:19Z</dcterms:created>
  <dc:creator>Sophie Williams</dc:creator>
  <dc:description/>
  <dc:language>en-US</dc:language>
  <cp:lastModifiedBy>Sophie Williams</cp:lastModifiedBy>
  <dcterms:modified xsi:type="dcterms:W3CDTF">2006-11-09T20:10:23Z</dcterms:modified>
  <cp:revision>2</cp:revision>
  <dc:subject/>
  <dc:title>Slide 1</dc:title>
</cp:coreProperties>
</file>